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601200" cy="12801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0244-979F-40FC-8008-2006843F3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828072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0240" y="7650720"/>
            <a:ext cx="828072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50606-D875-41D4-B6B0-8FC6D55E7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0320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60240" y="765072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03200" y="765072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D696-B993-48F7-8821-253C2EBC3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59960" y="340848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60040" y="340848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60240" y="765072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59960" y="765072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60040" y="7650720"/>
            <a:ext cx="266616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D2DF-4ACF-40F5-A000-0B4D8C905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60240" y="3408480"/>
            <a:ext cx="8280720" cy="812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C939-6868-4D25-8D2A-AD13B1E42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828072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6080-1332-4E19-9600-809F42AD4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404064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03200" y="3408480"/>
            <a:ext cx="404064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1995-37A1-483C-9C85-7E5242CE2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EB0B-CC04-4CF7-9339-7F8BD21D7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60240" y="680760"/>
            <a:ext cx="8280720" cy="1147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A79A-F502-4D24-ADD1-E9D06A1B4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03200" y="3408480"/>
            <a:ext cx="404064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60240" y="765072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389CF-22AA-48CA-8784-79D1035C0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404064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320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03200" y="765072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20FC-15DD-4809-B69A-3B6DE4FAE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6024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3200" y="3408480"/>
            <a:ext cx="404064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60240" y="7650720"/>
            <a:ext cx="8280720" cy="387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3FFE-E1BA-4690-8457-4AA8BC54A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60240" y="680760"/>
            <a:ext cx="8280720" cy="247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0240" y="3408480"/>
            <a:ext cx="8280720" cy="812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976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1" marL="71928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2" marL="120024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3" marL="1679400" indent="-2394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4" marL="215892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5" marL="215892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lvl="6" marL="2158920" indent="-23976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0240" y="11864880"/>
            <a:ext cx="216072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79880" y="11864880"/>
            <a:ext cx="324144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0240" y="11864880"/>
            <a:ext cx="2160720" cy="6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A38A6-E8AF-44F8-9827-59ACEDAFC8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3"/>
          <p:cNvSpPr/>
          <p:nvPr/>
        </p:nvSpPr>
        <p:spPr>
          <a:xfrm>
            <a:off x="0" y="11660040"/>
            <a:ext cx="9601200" cy="114156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"/>
          <p:cNvPicPr/>
          <p:nvPr/>
        </p:nvPicPr>
        <p:blipFill>
          <a:blip r:embed="rId1"/>
          <a:stretch/>
        </p:blipFill>
        <p:spPr>
          <a:xfrm>
            <a:off x="-1046160" y="9737640"/>
            <a:ext cx="11684160" cy="2657520"/>
          </a:xfrm>
          <a:prstGeom prst="rect">
            <a:avLst/>
          </a:prstGeom>
          <a:ln w="0">
            <a:noFill/>
          </a:ln>
        </p:spPr>
      </p:pic>
      <p:sp>
        <p:nvSpPr>
          <p:cNvPr id="43" name="TextBox 5"/>
          <p:cNvSpPr/>
          <p:nvPr/>
        </p:nvSpPr>
        <p:spPr>
          <a:xfrm>
            <a:off x="135000" y="2028960"/>
            <a:ext cx="932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03864"/>
                </a:solidFill>
                <a:latin typeface="Calibri"/>
              </a:rPr>
              <a:t>EGE ÜNİVERSİTES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7"/>
          <p:cNvSpPr/>
          <p:nvPr/>
        </p:nvSpPr>
        <p:spPr>
          <a:xfrm>
            <a:off x="135000" y="2612880"/>
            <a:ext cx="932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b0f0"/>
                </a:solidFill>
                <a:latin typeface="Calibri"/>
              </a:rPr>
              <a:t>ANA BAŞLIK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8"/>
          <p:cNvSpPr/>
          <p:nvPr/>
        </p:nvSpPr>
        <p:spPr>
          <a:xfrm>
            <a:off x="932040" y="4067280"/>
            <a:ext cx="773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9"/>
          <p:cNvSpPr/>
          <p:nvPr/>
        </p:nvSpPr>
        <p:spPr>
          <a:xfrm>
            <a:off x="4857840" y="5457960"/>
            <a:ext cx="394812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 but also the leap into electronic typesetting, remaining essentially unchanged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10"/>
          <p:cNvSpPr/>
          <p:nvPr/>
        </p:nvSpPr>
        <p:spPr>
          <a:xfrm>
            <a:off x="932040" y="7818480"/>
            <a:ext cx="39258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Lorem Ipsum is simply dummy text of the printing and typesetting industry. Lorem Ipsum has been the industry's standard dummy text ever since the 1500s, when an unknown printer took a galley of type and scrambled it to make a type specimen book. It has survived not only five centuries, but also the leap into electronic typesetting, remaining essentially unchanged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tangle 11"/>
          <p:cNvSpPr/>
          <p:nvPr/>
        </p:nvSpPr>
        <p:spPr>
          <a:xfrm>
            <a:off x="992160" y="5487840"/>
            <a:ext cx="3767040" cy="1965600"/>
          </a:xfrm>
          <a:prstGeom prst="rect">
            <a:avLst/>
          </a:prstGeom>
          <a:solidFill>
            <a:srgbClr val="e7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12"/>
          <p:cNvSpPr/>
          <p:nvPr/>
        </p:nvSpPr>
        <p:spPr>
          <a:xfrm>
            <a:off x="4857840" y="7808760"/>
            <a:ext cx="3768480" cy="1962360"/>
          </a:xfrm>
          <a:prstGeom prst="rect">
            <a:avLst/>
          </a:prstGeom>
          <a:solidFill>
            <a:srgbClr val="e7e6e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13"/>
          <p:cNvSpPr/>
          <p:nvPr/>
        </p:nvSpPr>
        <p:spPr>
          <a:xfrm>
            <a:off x="992160" y="11829960"/>
            <a:ext cx="77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İLETİŞİM BİLGİLERİ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14"/>
          <p:cNvSpPr/>
          <p:nvPr/>
        </p:nvSpPr>
        <p:spPr>
          <a:xfrm>
            <a:off x="992160" y="12138120"/>
            <a:ext cx="77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YER: TARİH: SAA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4084560" y="554040"/>
            <a:ext cx="1420920" cy="14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5-08T07:34:26Z</dcterms:created>
  <dc:creator>Microsoft Office User</dc:creator>
  <dc:description/>
  <dc:language>en-US</dc:language>
  <cp:lastModifiedBy>Microsoft Office User</cp:lastModifiedBy>
  <dcterms:modified xsi:type="dcterms:W3CDTF">2018-08-01T13:24:28Z</dcterms:modified>
  <cp:revision>2</cp:revision>
  <dc:subject/>
  <dc:title>PowerPoint Presentation</dc:title>
</cp:coreProperties>
</file>