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8280400" cy="41402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035C-6581-40BC-8705-D9DCED7C4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0802-5796-4AB7-B5B2-499E6582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DE6DE-53D3-485B-8BCC-67382EA97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8368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98200" y="110160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952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8368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98200" y="2474280"/>
            <a:ext cx="229896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4C8F-1248-4053-9A6C-8AAA5136A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0DA27-99CD-417B-B309-6FD174DB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F0E-C532-44D7-8500-69BA442A7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128C5-09BA-45FA-AA0B-3938FFF8B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EA39A-6582-4A30-BB90-50274812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69520" y="220680"/>
            <a:ext cx="7140600" cy="370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74D4-B7D9-4BBF-861C-C426C208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EA8D2-BCEC-4CAA-B05D-3BB1D73D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228560" y="247428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B304-7234-429F-A5DE-9E984499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952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228560" y="1101600"/>
            <a:ext cx="348444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9520" y="2474280"/>
            <a:ext cx="7140600" cy="12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FF9-A453-48FA-BA5A-BA1E404AB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69520" y="220680"/>
            <a:ext cx="7140600" cy="79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2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9520" y="1101600"/>
            <a:ext cx="714060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64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12920" indent="-136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68904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96516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5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6" marL="1241280" indent="-136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550800"/>
                <a:tab algn="l" pos="1101600"/>
                <a:tab algn="l" pos="1652760"/>
                <a:tab algn="l" pos="2203560"/>
                <a:tab algn="l" pos="2754360"/>
                <a:tab algn="l" pos="3305160"/>
                <a:tab algn="l" pos="3855960"/>
                <a:tab algn="l" pos="4406760"/>
                <a:tab algn="l" pos="4957920"/>
                <a:tab algn="l" pos="5508720"/>
                <a:tab algn="l" pos="6059520"/>
                <a:tab algn="l" pos="6610320"/>
                <a:tab algn="l" pos="7161120"/>
                <a:tab algn="l" pos="7711920"/>
                <a:tab algn="l" pos="8263080"/>
                <a:tab algn="l" pos="8813880"/>
                <a:tab algn="l" pos="9364680"/>
                <a:tab algn="l" pos="9915480"/>
                <a:tab algn="l" pos="104662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6952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42840" y="3836520"/>
            <a:ext cx="279396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847840" y="3836520"/>
            <a:ext cx="1862280" cy="2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  <a:defRPr b="0" lang="en-US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fld id="{379766AE-193E-4E73-A8FD-6B678850DA8F}" type="slidenum">
              <a:rPr b="0" lang="en-US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-1511280" y="-801720"/>
            <a:ext cx="10234440" cy="2327400"/>
          </a:xfrm>
          <a:prstGeom prst="rect">
            <a:avLst/>
          </a:prstGeom>
          <a:ln w="0">
            <a:noFill/>
          </a:ln>
        </p:spPr>
      </p:pic>
      <p:sp>
        <p:nvSpPr>
          <p:cNvPr id="42" name="TextBox 4"/>
          <p:cNvSpPr/>
          <p:nvPr/>
        </p:nvSpPr>
        <p:spPr>
          <a:xfrm>
            <a:off x="1604880" y="1785960"/>
            <a:ext cx="507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2000" spc="-1" strike="noStrike">
                <a:solidFill>
                  <a:srgbClr val="1f4e79"/>
                </a:solidFill>
                <a:latin typeface="Calibri"/>
              </a:rPr>
              <a:t>Davet Met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2"/>
          <a:stretch/>
        </p:blipFill>
        <p:spPr>
          <a:xfrm>
            <a:off x="3730680" y="604800"/>
            <a:ext cx="823680" cy="82404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1604880" y="2998800"/>
            <a:ext cx="507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600" spc="-1" strike="noStrike">
                <a:solidFill>
                  <a:srgbClr val="1f4e79"/>
                </a:solidFill>
                <a:latin typeface="Calibri"/>
              </a:rPr>
              <a:t>İm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8"/>
          <p:cNvSpPr/>
          <p:nvPr/>
        </p:nvSpPr>
        <p:spPr>
          <a:xfrm>
            <a:off x="0" y="0"/>
            <a:ext cx="8280360" cy="4138560"/>
          </a:xfrm>
          <a:prstGeom prst="rect">
            <a:avLst/>
          </a:prstGeom>
          <a:solidFill>
            <a:srgbClr val="1622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0" y="3857760"/>
            <a:ext cx="8294760" cy="28260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5"/>
          <p:cNvSpPr/>
          <p:nvPr/>
        </p:nvSpPr>
        <p:spPr>
          <a:xfrm>
            <a:off x="392040" y="430200"/>
            <a:ext cx="506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Calibri"/>
              </a:rPr>
              <a:t>Progra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6"/>
          <p:cNvSpPr/>
          <p:nvPr/>
        </p:nvSpPr>
        <p:spPr>
          <a:xfrm>
            <a:off x="392040" y="849240"/>
            <a:ext cx="5068800" cy="11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Lorem ipsum dolor sit amet, consectetur adipiscing eli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Aenean sit amet quam commodo, facilisis lectus eget, pellentesque mauri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Donec laoreet leo maximus sodales volutpat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Proin euismod massa sit amet sagittis efficitur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7"/>
          <p:cNvSpPr/>
          <p:nvPr/>
        </p:nvSpPr>
        <p:spPr>
          <a:xfrm>
            <a:off x="392040" y="3065400"/>
            <a:ext cx="506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Yer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Ege Üniversitesi Kampüsü, Bornova/İZMİR</a:t>
            </a:r>
            <a:br>
              <a:rPr sz="1000"/>
            </a:b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Tarih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00 Haziran 2018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595440"/>
                <a:tab algn="l" pos="1190520"/>
                <a:tab algn="l" pos="1785960"/>
                <a:tab algn="l" pos="2381400"/>
                <a:tab algn="l" pos="2976480"/>
                <a:tab algn="l" pos="3571920"/>
                <a:tab algn="l" pos="4167360"/>
                <a:tab algn="l" pos="4762440"/>
                <a:tab algn="l" pos="5357880"/>
                <a:tab algn="l" pos="5952960"/>
                <a:tab algn="l" pos="6548400"/>
                <a:tab algn="l" pos="7143840"/>
                <a:tab algn="l" pos="7738920"/>
                <a:tab algn="l" pos="8334360"/>
                <a:tab algn="l" pos="8929800"/>
                <a:tab algn="l" pos="9524880"/>
                <a:tab algn="l" pos="10120320"/>
                <a:tab algn="l" pos="10715760"/>
              </a:tabLst>
            </a:pPr>
            <a:r>
              <a:rPr b="0" lang="en-US" sz="1000" spc="-1" strike="noStrike">
                <a:solidFill>
                  <a:srgbClr val="00b0f0"/>
                </a:solidFill>
                <a:latin typeface="Calibri"/>
              </a:rPr>
              <a:t>Saat: </a:t>
            </a:r>
            <a:r>
              <a:rPr b="0" lang="en-US" sz="1000" spc="-1" strike="noStrike">
                <a:solidFill>
                  <a:srgbClr val="deebf7"/>
                </a:solidFill>
                <a:latin typeface="Calibri"/>
              </a:rPr>
              <a:t>20.3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1"/>
          <a:stretch/>
        </p:blipFill>
        <p:spPr>
          <a:xfrm>
            <a:off x="2200320" y="1854360"/>
            <a:ext cx="60879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02T06:11:59Z</dcterms:created>
  <dc:creator>Microsoft Office User</dc:creator>
  <dc:description/>
  <dc:language>en-US</dc:language>
  <cp:lastModifiedBy>Microsoft Office User</cp:lastModifiedBy>
  <dcterms:modified xsi:type="dcterms:W3CDTF">2018-04-02T06:36:08Z</dcterms:modified>
  <cp:revision>4</cp:revision>
  <dc:subject/>
  <dc:title>PowerPoint Presentation</dc:title>
</cp:coreProperties>
</file>